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1A4-CDEF-4CF2-A723-007C38C5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46B9-1745-4674-9656-085A9001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BF99-1569-483C-B0CB-2E8ED4B3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788-D1FA-4FA7-98F5-3633ECB9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054-2E40-4DD8-9A29-9A870293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6C0-755B-44EB-906C-E631605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E55-579D-4665-8215-3CB922A0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E06-A22E-424F-9B4F-F5AE421A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DEC-D2F1-419C-BB31-E9DB0CA1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3E6-ED72-40FD-B93A-1AD119C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A16-045F-4E47-AF7F-C2E89501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533F-A38D-4E26-90C9-B5286B7A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2D10-94D7-45C2-8BBC-BE4F662E2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itr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are et l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train a du retard ou les voyageurs sont en retard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00200" y="2590920"/>
            <a:ext cx="601992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type?  Quelles instruction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s sont les deux villes du voy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9304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l’homme fa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1436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’elle fa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allez faire en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3828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’elle va f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ù est-ell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elle achè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62520" y="2590920"/>
            <a:ext cx="43434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font-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46479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y a deux train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ieille dame, qu’est-ce qu’elle a?  Donc, qu’est-ce qu’elle va faire?  Et la jeune femme?  Qu’est-ce qu’elle fa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 ce qui s’est pass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crivez la phot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3962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 maintenant, pour vo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ez avec une camarade de classe d’un voyage en train que vous allez prend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allez faire à la g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ù allez vous?  De quel type de billet avez-vous beso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c qui allez-vous parl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vous faites en tr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us allez lire, écrire, arriver en retard, arriver à l’heure, etc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ignifie TGV et SNC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44956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ù sont-ils,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vous reconnaissez ce bât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400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 sont ces ge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ils fo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ils dis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4438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es gens fo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s parlent avec qu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fait un passager?  Et un autre? Les to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47908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ù sont-ils, ces gens?  Qu’est-ce qu’ils f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on vend?  Qui sont les ge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486400" cy="36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’est-ce que c’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lle heure est-ce que le train pour Montpellier part-il?  De quelle vo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voyageurs sont où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est-ce qu’on identifie leur vo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23:37:57Z</dcterms:created>
  <dc:creator>edill</dc:creator>
  <dc:description/>
  <dc:language>en-US</dc:language>
  <cp:lastModifiedBy>edill</cp:lastModifiedBy>
  <dcterms:modified xsi:type="dcterms:W3CDTF">2011-10-17T00:45:21Z</dcterms:modified>
  <cp:revision>7</cp:revision>
  <dc:subject/>
  <dc:title>Chapitre 9</dc:title>
</cp:coreProperties>
</file>